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FB48-D1D8-40C8-9154-277018FF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343-D9A2-4BD1-923B-5E1DF56D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3FA-966E-485D-A583-C1D4E160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83C-A506-4957-B846-D656FA20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2E5-B107-481A-8A37-00B3ED70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18E-8046-46AB-A75B-F82147F6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FEFD-F81B-4F45-AAA1-4FC1B6D8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73F-580D-4627-AF7B-C32AA06E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BC3-D351-43A8-BC7E-44834DE3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057-8109-4E72-9793-710A99A2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D782-E927-4C03-AB14-0878DAC1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14E-CF0D-4BEE-8AAF-61FF21F1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0A3BE-DC7A-4C18-A62E-79C1166EB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900000"/>
            <a:ext cx="6659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test PPT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0:45:02Z</dcterms:created>
  <dc:creator/>
  <dc:description/>
  <dc:language>en-US</dc:language>
  <cp:lastModifiedBy/>
  <dcterms:modified xsi:type="dcterms:W3CDTF">2009-12-02T10:45:53Z</dcterms:modified>
  <cp:revision>2</cp:revision>
  <dc:subject/>
  <dc:title/>
</cp:coreProperties>
</file>